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3679-AD67-4E83-8C55-E4F2F40D9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1F22-7A7A-4217-8431-2A6EDFE6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F5E9-B36D-4222-8C1F-14C80BA8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CD91-1968-4705-81A7-71AC7DF1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CF4B-6C91-4757-AAE6-373F69F6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778F-2ABF-4837-BE1C-C5830099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2F5B-2474-492E-BD27-E1219FBA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C016-970C-4853-BCDC-96D11F35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8E96-B22C-447D-B0A0-0FC00210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4371-79D5-4303-BCEE-511F51AA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C300-2C25-40EE-9DAA-E1677269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1797-E0B9-44D0-8657-0C3B66AA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D672-D2FA-467E-86F0-BA467E870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Verdana"/>
              </a:rPr>
              <a:t>Jak zrobić dobrą</a:t>
            </a:r>
            <a:br>
              <a:rPr sz="6000"/>
            </a:br>
            <a:r>
              <a:rPr b="0" lang="pl-PL" sz="6000" spc="-1" strike="noStrike">
                <a:solidFill>
                  <a:srgbClr val="000000"/>
                </a:solidFill>
                <a:latin typeface="Verdana"/>
              </a:rPr>
              <a:t>prezentację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zcze kol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95280" y="228456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Zielony,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niebieski,</a:t>
            </a:r>
            <a:br>
              <a:rPr sz="3600"/>
            </a:br>
            <a:r>
              <a:rPr b="0" lang="en-US" sz="3600" spc="-1" strike="noStrike">
                <a:solidFill>
                  <a:srgbClr val="ff66ff"/>
                </a:solidFill>
                <a:latin typeface="Times New Roman"/>
              </a:rPr>
              <a:t>fioletowy</a:t>
            </a:r>
            <a:br>
              <a:rPr sz="3600"/>
            </a:b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uspokajaj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228456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zerwony,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żółty</a:t>
            </a:r>
            <a:br>
              <a:rPr sz="3600"/>
            </a:b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i pomarańczowy</a:t>
            </a:r>
            <a:br>
              <a:rPr sz="3600"/>
            </a:b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ożywiaj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kst animowany na tekście (trick: rzut + ukryj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236232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C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35812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4952880"/>
            <a:ext cx="374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5486400"/>
            <a:ext cx="374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ash 5 for Dumm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ash MX for Dumm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40384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Point 2000 Professional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to Do Everything with PowerPoint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28954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lvl="1" marL="341640" indent="-131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CAD for Dummies Quick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640" indent="-131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CAD 14 for Dummies Quick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640" indent="-131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CAD 14 Answers! Certified Tech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640" indent="-131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CAD 14 B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640" indent="-131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CAD 2000 for Dummies Quick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640" indent="-131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CAD 2000 B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640" indent="-131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CAD 2002 B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640" indent="-131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5238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żywaj animacji, ale nie przesadź z nią. Może zdezorientować słuchac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Ćwiczeni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190512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C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31240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4495680"/>
            <a:ext cx="374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5029200"/>
            <a:ext cx="374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ash 5 for Dumm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ash MX for Dumm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35812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Point 2000 Professional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to Do Everything with PowerPoint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4382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lvl="1" marL="341640" indent="-131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CAD for Dummies Quick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640" indent="-131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CAD 14 for Dummies Quick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640" indent="-131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CAD 14 Answers! Certified Tech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640" indent="-131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CAD 14 B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640" indent="-131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CAD 2000 for Dummies Quick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640" indent="-131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CAD 2000 B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640" indent="-131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CAD 2002 B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640" indent="-131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0666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urier New"/>
              </a:rPr>
              <a:t>Ustaw animację poniższych wypunktowań aby była taka jak na poprzednim slajdz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rótkie hasła. Równoważniki zdań. Mało słó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962520" cy="2984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24280" y="205740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57200" y="5257800"/>
            <a:ext cx="8458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ęcej niż 30 słów na slajdzie znaczy już, że coś jest nie tak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jlepiej zastosować wypunktowanie. Ono pomaga skupić uwag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niecznie unikaj obszernych opisó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Ćwiczeni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914400"/>
            <a:ext cx="838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króć poniższy tekst zachowując informacje uznane przez siebie za najistotniejsze tak, aby był zgodny z uwagami na poprzednim slajdz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2498760"/>
            <a:ext cx="838188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dstawowe elementy kompu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iększość współczesnych komputerów opartych jest na tzw. architekturze von Neumanna (od nazwiska Johna von Neumanna), tj. składa się z trzech podstawowych elementó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ocesora - podzielonego na część arytmetyczno-logiczną czyli układu, który faktycznie wykonuje wszystkie konieczne obliczenia oraz część sterując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amięci RAM - (od ang. Random Access Memory) czyli układy scalone, które przechowują program i dane oraz bieżące wyniki obliczeń procesora i stale, na bieżąco wymienia dane z proceso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rządzeń wejścia/wyjścia - które służą do komunikacji komputera z otoczeni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kst i rysunki daleko od siebie i od brzegów slajdu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952880" y="2438280"/>
            <a:ext cx="4191120" cy="3143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04920" y="5791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y wypunktowaniach – 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konieczni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odstępy pomiędzy punktami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37339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62485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Ćwiczenie 5: skoryguj następny slaj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rotoplaści informaty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laise Pascal – konstrukcja maszyny liczącej umiejącej dodawać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ottfried Leibniz – dalsze prace nad mechanicznymi maszynami liczącymi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les Babbage – konstrukcja maszyny różnicowej i maszyny analitycznej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da Lovelace – współpraca z Babbagem, pierwsza kobieta informatyk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laude Shannon – teoria informacji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lan Turing – maszyna Turin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kład elementów na stro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1600200"/>
            <a:ext cx="434340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57800" y="4343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te miejsca - ź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7524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tuł niesymetrycz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2438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kst nierów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97180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jest ewidentnie zanadto długi i raczej dość nierówno rozłożony przykład teks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743200" y="4038480"/>
            <a:ext cx="1657440" cy="1641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343400" y="5257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razek umieszczony chaotycz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5670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Ćwiczenie 6: uporządkuj ten slajd (wszystkie elementy mają zostać, rozmieść je tak, aby układ był miły dla oka)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Uwaga odbior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9051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biorca zwraca największą uwagę na górną część slajdu, a szczególnie na lewy górny ró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600200" y="2743200"/>
          <a:ext cx="5638680" cy="3860640"/>
        </p:xfrm>
        <a:graphic>
          <a:graphicData uri="http://schemas.openxmlformats.org/drawingml/2006/table">
            <a:tbl>
              <a:tblPr/>
              <a:tblGrid>
                <a:gridCol w="2819160"/>
                <a:gridCol w="2819520"/>
              </a:tblGrid>
              <a:tr h="182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,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Dane przedstawiaj w postaci graficzne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343400" y="2286000"/>
          <a:ext cx="4191120" cy="31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286000"/>
                    <a:ext cx="419112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09480" y="2819520"/>
            <a:ext cx="2210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ładz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tawodaw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ykonaw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ądownic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567072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Ćwiczenie 7: Informacje na następnym slajdzie przedstaw w postaci zaprojektowanego przez siebie schemat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000000"/>
                </a:solidFill>
                <a:latin typeface="Times New Roman"/>
              </a:rPr>
              <a:t>NAJWAŻNIEJSZĄ RZECZĄ W PREZENTACJI  JEST DOBRA TREŚĆ!!!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amow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Języki programowan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as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6212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ziękuję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476520"/>
            <a:ext cx="28191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 koniec umieść coś miłego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że być też śmieszne – to obudzi słuchac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48769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rok 1: Wymyślamy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rok 2: Wybieramy szablon, robimy stronę tytułową i stronę z plan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rok 3: Można też na początku, przed lub za planem umieścić cele prezentacj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rok 4: Możemy u góry/dołu/z boku każdego slajdu umieścić mini plan z podświetlonym bieżącym punktem, może być „klikalny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28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ozwinięcie 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ozwinięcie 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Rozwinięcie 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Zakończen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żda plansza ma tytuł pisany czcionką min. 36 punktów. Ten tytuł jest za dług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538280"/>
            <a:ext cx="754380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0 punktów Król </a:t>
            </a:r>
            <a:br>
              <a:rPr sz="3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8 punktów Karol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punkty Kupił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 punktów Królowej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 punktów Karolinie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 punktów Korale</a:t>
            </a:r>
            <a:br>
              <a:rPr sz="16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punktów Koloru</a:t>
            </a:r>
            <a:br>
              <a:rPr sz="12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 punktów Koralowe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2909880"/>
            <a:ext cx="2895840" cy="304920"/>
          </a:xfrm>
          <a:prstGeom prst="leftArrow">
            <a:avLst>
              <a:gd name="adj1" fmla="val 50000"/>
              <a:gd name="adj2" fmla="val 237426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24480" y="283536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jest minimum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240080"/>
            <a:ext cx="86104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życie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óżny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cione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u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óżny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fektó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yglą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iedobr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leż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żywać konsekwentnie tego samego efek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sim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 czcionki na prezentacj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elkości czcionek zależą od typu/odległości rzutnika/ekra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2529000"/>
            <a:ext cx="2895840" cy="304560"/>
          </a:xfrm>
          <a:prstGeom prst="leftArrow">
            <a:avLst>
              <a:gd name="adj1" fmla="val 50000"/>
              <a:gd name="adj2" fmla="val 23770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2362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jest standard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 Black"/>
              </a:rPr>
              <a:t>Microsoft Office a OpenOff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76360" y="2590920"/>
            <a:ext cx="28191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ower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Verdana"/>
              </a:rPr>
              <a:t>Point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– Im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바탕"/>
              </a:rPr>
              <a:t>Word</a:t>
            </a:r>
            <a:r>
              <a:rPr b="0" lang="pl-PL" sz="1600" spc="-1" strike="noStrike">
                <a:solidFill>
                  <a:srgbClr val="000000"/>
                </a:solidFill>
                <a:latin typeface="바탕"/>
              </a:rPr>
              <a:t> – Wr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Excel – 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MS Mincho"/>
              </a:rPr>
              <a:t>Access – </a:t>
            </a:r>
            <a:r>
              <a:rPr b="1" i="1" lang="pl-PL" sz="1600" spc="-1" strike="noStrike">
                <a:solidFill>
                  <a:srgbClr val="000000"/>
                </a:solidFill>
                <a:latin typeface="MS Mincho"/>
              </a:rPr>
              <a:t>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584352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Ćwiczenie 1: popraw ten slajd aby był zgodny z wytycznymi z poprzedniego slajdu. Postaraj się aby slajd wyglądał estetycz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zcze czcion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301788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Nie używaj dziwnych czcionek. Wyglądają źle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1981080"/>
            <a:ext cx="495288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ozmiar tekstu zależy od typu czcion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aramond"/>
              </a:rPr>
              <a:t>Text garamond 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Text arial 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42069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ŻE LITERY CZYTA SIĘ TRUDNIEJ NIŻ MA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5410080"/>
            <a:ext cx="731520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pl-PL" sz="28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0" lang="pl-PL" sz="2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pl-PL" sz="2800" spc="-1" strike="noStrike">
                <a:solidFill>
                  <a:srgbClr val="33cc33"/>
                </a:solidFill>
                <a:latin typeface="Arial"/>
              </a:rPr>
              <a:t>z</a:t>
            </a:r>
            <a:r>
              <a:rPr b="0" lang="pl-PL" sz="2800" spc="-1" strike="noStrike">
                <a:solidFill>
                  <a:srgbClr val="0066ff"/>
                </a:solidFill>
                <a:latin typeface="Arial"/>
              </a:rPr>
              <a:t>e </a:t>
            </a: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z</a:t>
            </a:r>
            <a:r>
              <a:rPr b="0" lang="pl-PL" sz="2800" spc="-1" strike="noStrike">
                <a:solidFill>
                  <a:srgbClr val="ff3399"/>
                </a:solidFill>
                <a:latin typeface="Arial"/>
              </a:rPr>
              <a:t>a</a:t>
            </a: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pl-PL" sz="28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0" lang="pl-PL" sz="2800" spc="-1" strike="noStrike">
                <a:solidFill>
                  <a:srgbClr val="ffff00"/>
                </a:solidFill>
                <a:latin typeface="Arial"/>
              </a:rPr>
              <a:t>ł</a:t>
            </a:r>
            <a:r>
              <a:rPr b="0" lang="pl-PL" sz="2800" spc="-1" strike="noStrike">
                <a:solidFill>
                  <a:srgbClr val="33cc33"/>
                </a:solidFill>
                <a:latin typeface="Arial"/>
              </a:rPr>
              <a:t>y </a:t>
            </a:r>
            <a:r>
              <a:rPr b="0" lang="pl-PL" sz="2800" spc="-1" strike="noStrike">
                <a:solidFill>
                  <a:srgbClr val="0066ff"/>
                </a:solidFill>
                <a:latin typeface="Arial"/>
              </a:rPr>
              <a:t>d</a:t>
            </a: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o </a:t>
            </a:r>
            <a:r>
              <a:rPr b="0" lang="pl-PL" sz="2800" spc="-1" strike="noStrike">
                <a:solidFill>
                  <a:srgbClr val="ff3399"/>
                </a:solidFill>
                <a:latin typeface="Arial"/>
              </a:rPr>
              <a:t>b</a:t>
            </a: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pl-PL" sz="2800" spc="-1" strike="noStrike">
                <a:solidFill>
                  <a:srgbClr val="ff6600"/>
                </a:solidFill>
                <a:latin typeface="Arial"/>
              </a:rPr>
              <a:t>c</a:t>
            </a:r>
            <a:r>
              <a:rPr b="0" lang="pl-PL" sz="2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pl-PL" sz="2800" spc="-1" strike="noStrike">
                <a:solidFill>
                  <a:srgbClr val="33cc33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66ff"/>
                </a:solidFill>
                <a:latin typeface="Arial"/>
              </a:rPr>
              <a:t>t</a:t>
            </a: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w</a:t>
            </a:r>
            <a:r>
              <a:rPr b="0" lang="pl-PL" sz="2800" spc="-1" strike="noStrike">
                <a:solidFill>
                  <a:srgbClr val="ff3399"/>
                </a:solidFill>
                <a:latin typeface="Arial"/>
              </a:rPr>
              <a:t>ó</a:t>
            </a: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pl-PL" sz="2800" spc="-1" strike="noStrike">
                <a:solidFill>
                  <a:srgbClr val="ff6600"/>
                </a:solidFill>
                <a:latin typeface="Arial"/>
              </a:rPr>
              <a:t>c</a:t>
            </a:r>
            <a:r>
              <a:rPr b="0" lang="pl-PL" sz="2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0" lang="pl-PL" sz="2800" spc="-1" strike="noStrike">
                <a:solidFill>
                  <a:srgbClr val="33cc33"/>
                </a:solidFill>
                <a:latin typeface="Arial"/>
              </a:rPr>
              <a:t>y</a:t>
            </a:r>
            <a:r>
              <a:rPr b="0" lang="pl-PL" sz="2800" spc="-1" strike="noStrike">
                <a:solidFill>
                  <a:srgbClr val="0066ff"/>
                </a:solidFill>
                <a:latin typeface="Arial"/>
              </a:rPr>
              <a:t>m</a:t>
            </a: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kończą się ź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olory tł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5486400"/>
            <a:ext cx="3429000" cy="825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jlepsze są kolory pośredn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447920"/>
            <a:ext cx="4724640" cy="15721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Zbyt ciemne – niedobre, męczy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3352680"/>
            <a:ext cx="4800600" cy="1937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lory jasne z kolei mogą być mdł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5486400"/>
            <a:ext cx="2209680" cy="8254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żywajmy i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1371600"/>
            <a:ext cx="2514600" cy="19227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miętamy o czytelności tło -  tekst!!!! Ciemny kolor na ciemnym tle - ź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613320"/>
            <a:ext cx="25146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Jasny kolor na jasnym tle nic nie widać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Ćwiczeni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730600"/>
            <a:ext cx="4724640" cy="15721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Zbyt ciemne – niedobre, męczy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4635360"/>
            <a:ext cx="4800600" cy="1937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lory jasne z kolei mogą być mdł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5880" y="2654280"/>
            <a:ext cx="2514600" cy="19227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miętamy o czytelności tło -  tekst!!!! Ciemny kolor na ciemnym tle - ź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5880" y="4896000"/>
            <a:ext cx="25146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Jasny kolor na jasnym tle nic nie widać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06668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praw kolory tekstu i tła w ramkach, aby w każdej ramce było inne tło i inny tekst. Kolory powinny być czytelne. Nie powinny być mdłe (za jasne) ani męczące (za ciemn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żywajmy koloró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1523880"/>
            <a:ext cx="65530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rno białe slajdy są nudne i monotonne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w ogóle jeśli ktoś zrobił czarno białą prezentację to pewnie jest strasznym nudziarzem i nie warto go słuchać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śli używamy kolorów to ważne jest zachowanie spójności w prezentacj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495680"/>
            <a:ext cx="1752480" cy="486000"/>
          </a:xfrm>
          <a:prstGeom prst="rightArrow">
            <a:avLst>
              <a:gd name="adj1" fmla="val 50000"/>
              <a:gd name="adj2" fmla="val 90148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44956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śli zielona strzałka to zawsze zielon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50292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518148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śli wzór chemiczny na niebiesko to zaws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5638680"/>
            <a:ext cx="457200" cy="92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ij  </a:t>
            </a:r>
            <a:r>
              <a:rPr b="0" lang="pl-PL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pl-PL" sz="2400" spc="-1" strike="noStrike" baseline="-25000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66880" y="58672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śli oznaczenia matematyczne to konsekwentni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03:07:09Z</dcterms:created>
  <dc:creator>Piotr Kalita</dc:creator>
  <dc:description/>
  <dc:language>en-US</dc:language>
  <cp:lastModifiedBy>Piotr Kalita</cp:lastModifiedBy>
  <dcterms:modified xsi:type="dcterms:W3CDTF">2008-01-04T13:39:10Z</dcterms:modified>
  <cp:revision>24</cp:revision>
  <dc:subject/>
  <dc:title>Jak zrobić dobrą prezentację?</dc:title>
</cp:coreProperties>
</file>