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D4E-68B3-4753-8017-6EEDDEC7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27A-F073-44EA-B4A9-C358A04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57F-D4AC-48A8-BA04-62F2464D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005-93F8-4C56-B47B-4F6FF442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42A-6EBE-48A4-AF10-F49F0CC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B3F-D0B5-4517-9EB4-EB8BA4CC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6F5-C6AE-43D4-8495-BA849C75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B02-1C94-4CE6-BCB0-493E66F2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FEC-4A5B-4C3A-A1E5-C216C662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FA0-CE33-4FA7-BF1A-7A4EA488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0D6-C432-4AFC-8F95-C0BFF4F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E22-507A-42E3-8E85-A02B329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BC69-E083-4C45-BE84-968C07E48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Verdana"/>
              </a:rPr>
              <a:t>Jak zrobić dobrą</a:t>
            </a:r>
            <a:br>
              <a:rPr sz="6000"/>
            </a:br>
            <a:r>
              <a:rPr b="0" lang="pl-PL" sz="6000" spc="-1" strike="noStrike">
                <a:solidFill>
                  <a:srgbClr val="000000"/>
                </a:solidFill>
                <a:latin typeface="Verdana"/>
              </a:rPr>
              <a:t>prezentację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zcze kol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28456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Zielony,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iebieski,</a:t>
            </a:r>
            <a:br>
              <a:rPr sz="3600"/>
            </a:b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fioletowy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spokajaj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28456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zerwony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żółty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i pomarańczowy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żywiaj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kst animowany na tekście (trick: rzut + ukryj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3623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581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952880"/>
            <a:ext cx="374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486400"/>
            <a:ext cx="374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5 for Dum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MX for Dum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0384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Point 2000 Profession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to Do Everything with PowerPoint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895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Answers! Certified Tech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0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0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2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żywaj animacji, ale nie przesadź z nią. Może zdezorientować słuchac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Ćwiczeni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9051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1240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495680"/>
            <a:ext cx="374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029200"/>
            <a:ext cx="374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5 for Dum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MX for Dum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581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Point 2000 Profession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to Do Everything with PowerPoint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4382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Answers! Certified Tech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14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0 for Dummies Quick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0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CAD 2002 B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urier New"/>
              </a:rPr>
              <a:t>Ustaw animację poniższych wypunktowań aby była taka jak na poprzednim slajd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ótkie hasła. Równoważniki zdań. Mało słó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62520" cy="298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5257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ęcej niż 30 słów na slajdzie znaczy już, że coś jest nie tak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lepiej zastosować wypunktowanie. Ono pomaga skupić uwag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iecznie unikaj obszernych opis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Ćwiczeni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91440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króć poniższy tekst zachowując informacje uznane przez siebie za najistotniejsze tak, aby był zgodny z uwagami na poprzednim slajd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498760"/>
            <a:ext cx="83818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stawowe elementy kompu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iększość współczesnych komputerów opartych jest na tzw. architekturze von Neumanna (od nazwiska Johna von Neumanna), tj. składa się z trzech podstawowych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cesora - podzielonego na część arytmetyczno-logiczną czyli układu, który faktycznie wykonuje wszystkie konieczne obliczenia oraz część sterują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mięci RAM - (od ang. Random Access Memory) czyli układy scalone, które przechowują program i dane oraz bieżące wyniki obliczeń procesora i stale, na bieżąco wymienia dane z proces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rządzeń wejścia/wyjścia - które służą do komunikacji komputera z otoczeni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kst i rysunki daleko od siebie i od brzegów slajd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y wypunktowaniach –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niecz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dstępy pomiędzy punktami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733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Ćwiczenie 5: skoryguj następny slaj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otoplaści informaty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laise Pascal – konstrukcja maszyny liczącej umiejącej dodawać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ottfried Leibniz – dalsze prace nad mechanicznymi maszynami liczącym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les Babbage – konstrukcja maszyny różnicowej i maszyny analitycznej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a Lovelace – współpraca z Babbagem, pierwsza kobieta informaty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laude Shannon – teoria informacj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lan Turing – maszyna Tur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 elementów na stro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600200"/>
            <a:ext cx="4343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te miejsca - ź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752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tuł niesy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kst nierów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9718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jest ewidentnie zanadto długi i raczej dość nierówno rozłożony przykład teks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1657440" cy="164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3400" y="5257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razek umieszczony chaotycz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Ćwiczenie 6: uporządkuj ten slajd (wszystkie elementy mają zostać, rozmieść je tak, aby układ był miły dla oka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waga odbior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biorca zwraca największą uwagę na górną część slajdu, a szczególnie na lewy górny ró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00200" y="2743200"/>
          <a:ext cx="5638680" cy="386064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182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ane przedstawiaj w postaci graficz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343400" y="2286000"/>
          <a:ext cx="41911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286000"/>
                    <a:ext cx="41911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09480" y="2819520"/>
            <a:ext cx="2210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d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tawodaw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naw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ądownic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670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Ćwiczenie 7: Informacje na następnym slajdzie przedstaw w postaci zaprojektowanego przez siebie schema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Times New Roman"/>
              </a:rPr>
              <a:t>NAJWAŻNIEJSZĄ RZECZĄ W PREZENTACJI  JEST DOBRA TREŚĆ!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ow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ęzyki programowan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ziękuję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476520"/>
            <a:ext cx="2819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koniec umieść coś miłego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e być też śmieszne – to obudzi słuchac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4876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ok 1: Wymyślamy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ok 2: Wybieramy szablon, robimy stronę tytułową i stronę z plan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ok 3: Można też na początku, przed lub za planem umieścić cele prezent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ok 4: Możemy u góry/dołu/z boku każdego slajdu umieścić mini plan z podświetlonym bieżącym punktem, może być „klikaln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28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zwinięcie 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zwinięcie 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ozwinięcie 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akończe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żda plansza ma tytuł pisany czcionką min. 36 punktów. Ten tytuł jest za dług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538280"/>
            <a:ext cx="75438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0 punktów Król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 punktów Karo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punkty Kupił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punktów Królowej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punktów Karolinie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 punktów Korale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punktów Koloru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punktów Koralowe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2909880"/>
            <a:ext cx="2895840" cy="304920"/>
          </a:xfrm>
          <a:prstGeom prst="leftArrow">
            <a:avLst>
              <a:gd name="adj1" fmla="val 50000"/>
              <a:gd name="adj2" fmla="val 23742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28353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jest minimum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240080"/>
            <a:ext cx="8610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życi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óż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cion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óżn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ekt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yglą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edobr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leż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żywać konsekwentnie tego samego efe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s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czcionki na prezentacj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lkości czcionek zależą od typu/odległości rzutnika/ekr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2529000"/>
            <a:ext cx="2895840" cy="30456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2362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jest standar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Microsoft Office a Open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360" y="2590920"/>
            <a:ext cx="2819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wer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Verdana"/>
              </a:rPr>
              <a:t>Point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– Im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바탕"/>
              </a:rPr>
              <a:t>Word</a:t>
            </a:r>
            <a:r>
              <a:rPr b="0" lang="pl-PL" sz="1600" spc="-1" strike="noStrike">
                <a:solidFill>
                  <a:srgbClr val="000000"/>
                </a:solidFill>
                <a:latin typeface="바탕"/>
              </a:rPr>
              <a:t> – Wr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Excel – 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MS Mincho"/>
              </a:rPr>
              <a:t>Access – </a:t>
            </a:r>
            <a:r>
              <a:rPr b="1" i="1" lang="pl-PL" sz="1600" spc="-1" strike="noStrike">
                <a:solidFill>
                  <a:srgbClr val="000000"/>
                </a:solidFill>
                <a:latin typeface="MS Mincho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8435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Ćwiczenie 1: popraw ten slajd aby był zgodny z wytycznymi z poprzedniego slajdu. Postaraj się aby slajd wyglądał estetycz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zcze czcion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0178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Nie używaj dziwnych czcionek. Wyglądają źle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981080"/>
            <a:ext cx="49528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miar tekstu zależy od typu czcion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aramond"/>
              </a:rPr>
              <a:t>Text garamond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Text arial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2069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ŻE LITERY CZYTA SIĘ TRUDNIEJ NIŻ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410080"/>
            <a:ext cx="73152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pl-PL" sz="2800" spc="-1" strike="noStrike">
                <a:solidFill>
                  <a:srgbClr val="33cc33"/>
                </a:solidFill>
                <a:latin typeface="Arial"/>
              </a:rPr>
              <a:t>z</a:t>
            </a:r>
            <a:r>
              <a:rPr b="0" lang="pl-PL" sz="2800" spc="-1" strike="noStrike">
                <a:solidFill>
                  <a:srgbClr val="0066ff"/>
                </a:solidFill>
                <a:latin typeface="Arial"/>
              </a:rPr>
              <a:t>e </a:t>
            </a: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z</a:t>
            </a:r>
            <a:r>
              <a:rPr b="0" lang="pl-PL" sz="28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ł</a:t>
            </a:r>
            <a:r>
              <a:rPr b="0" lang="pl-PL" sz="2800" spc="-1" strike="noStrike">
                <a:solidFill>
                  <a:srgbClr val="33cc33"/>
                </a:solidFill>
                <a:latin typeface="Arial"/>
              </a:rPr>
              <a:t>y </a:t>
            </a:r>
            <a:r>
              <a:rPr b="0" lang="pl-PL" sz="2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o </a:t>
            </a:r>
            <a:r>
              <a:rPr b="0" lang="pl-PL" sz="2800" spc="-1" strike="noStrike">
                <a:solidFill>
                  <a:srgbClr val="ff3399"/>
                </a:solidFill>
                <a:latin typeface="Arial"/>
              </a:rPr>
              <a:t>b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pl-PL" sz="28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66ff"/>
                </a:solidFill>
                <a:latin typeface="Arial"/>
              </a:rPr>
              <a:t>t</a:t>
            </a: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w</a:t>
            </a:r>
            <a:r>
              <a:rPr b="0" lang="pl-PL" sz="2800" spc="-1" strike="noStrike">
                <a:solidFill>
                  <a:srgbClr val="ff3399"/>
                </a:solidFill>
                <a:latin typeface="Arial"/>
              </a:rPr>
              <a:t>ó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pl-PL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lang="pl-PL" sz="2800" spc="-1" strike="noStrike">
                <a:solidFill>
                  <a:srgbClr val="33cc33"/>
                </a:solidFill>
                <a:latin typeface="Arial"/>
              </a:rPr>
              <a:t>y</a:t>
            </a:r>
            <a:r>
              <a:rPr b="0" lang="pl-PL" sz="2800" spc="-1" strike="noStrike">
                <a:solidFill>
                  <a:srgbClr val="0066ff"/>
                </a:solidFill>
                <a:latin typeface="Arial"/>
              </a:rPr>
              <a:t>m</a:t>
            </a: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ńczą się ź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lory tł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486400"/>
            <a:ext cx="34290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lepsze są kolory pośred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447920"/>
            <a:ext cx="4724640" cy="1572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Zbyt ciemne – niedobre, męcz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4800600" cy="193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ory jasne z kolei mogą być mdł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486400"/>
            <a:ext cx="2209680" cy="825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żywajmy i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1371600"/>
            <a:ext cx="2514600" cy="1922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iętamy o czytelności tło -  tekst!!!! Ciemny kolor na ciemnym tle - ź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61332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Jasny kolor na jasnym tle nic nie widać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Ćwiczeni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730600"/>
            <a:ext cx="4724640" cy="1572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Zbyt ciemne – niedobre, męcz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635360"/>
            <a:ext cx="4800600" cy="193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ory jasne z kolei mogą być mdł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2654280"/>
            <a:ext cx="2514600" cy="1922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iętamy o czytelności tło -  tekst!!!! Ciemny kolor na ciemnym tle - ź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4896000"/>
            <a:ext cx="2514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Jasny kolor na jasnym tle nic nie widać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0666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raw kolory tekstu i tła w ramkach, aby w każdej ramce było inne tło i inny tekst. Kolory powinny być czytelne. Nie powinny być mdłe (za jasne) ani męczące (za ciem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żywajmy koloró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523880"/>
            <a:ext cx="6553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rno białe slajdy są nudne i monotonne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 ogóle jeśli ktoś zrobił czarno białą prezentację to pewnie jest strasznym nudziarzem i nie warto go słuchać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używamy kolorów to ważne jest zachowanie spójności w prezent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495680"/>
            <a:ext cx="1752480" cy="486000"/>
          </a:xfrm>
          <a:prstGeom prst="rightArrow">
            <a:avLst>
              <a:gd name="adj1" fmla="val 50000"/>
              <a:gd name="adj2" fmla="val 9014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495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zielona strzałka to zawsze zielon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50292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51814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wzór chemiczny na niebiesko to zaws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638680"/>
            <a:ext cx="457200" cy="92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ij  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pl-P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5867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oznaczenia matematyczne to konsekwentni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3:07:09Z</dcterms:created>
  <dc:creator>Piotr Kalita</dc:creator>
  <dc:description/>
  <dc:language>en-US</dc:language>
  <cp:lastModifiedBy>Piotr Kalita</cp:lastModifiedBy>
  <dcterms:modified xsi:type="dcterms:W3CDTF">2008-01-04T13:39:10Z</dcterms:modified>
  <cp:revision>24</cp:revision>
  <dc:subject/>
  <dc:title>Jak zrobić dobrą prezentację?</dc:title>
</cp:coreProperties>
</file>